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himes.wav" ContentType="audio/x-wav"/>
  <Override PartName="/ppt/media/applaus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DD27-97D2-4828-B672-266BEBFE78C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A131-580B-4299-AD92-3BA51F94A93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CA9C9-C56D-4FB7-BA6B-3F7A972C858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58AF-A9B9-4132-8869-B95BA626C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93B2-614C-4339-9870-947D1ABFD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31C-AEBD-4869-9824-F56B0DB7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F08-22AE-48BC-ACC1-36E33834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728-126E-4488-9CCA-AD42FB72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938C-B45C-4592-98F7-14BABBE65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5DAD-2874-4672-962A-1B384BBC0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7139-9ECF-4FDA-8458-792DC53B2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9CAA-1D6A-419B-AE4F-6EF80695B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75CA-DA20-421D-AFC5-F2BC926C5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6EA-2709-4827-8355-E7B7452E7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4EE0-DC67-463C-A6F0-26963193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ffebf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1B05-ECF9-46BE-9A00-3711847C05F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Passé Composé avec </a:t>
            </a:r>
            <a:r>
              <a:rPr b="1" lang="en-GB" sz="3600" spc="-1" strike="noStrike">
                <a:solidFill>
                  <a:srgbClr val="ff0000"/>
                </a:solidFill>
                <a:latin typeface="Comic Sans MS"/>
              </a:rPr>
              <a:t>Être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You already know how to form the Passé Composé tense.  Here is a reminder: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AutoShape 5"/>
          <p:cNvSpPr/>
          <p:nvPr/>
        </p:nvSpPr>
        <p:spPr>
          <a:xfrm>
            <a:off x="2819520" y="5638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AutoShape 6"/>
          <p:cNvSpPr/>
          <p:nvPr/>
        </p:nvSpPr>
        <p:spPr>
          <a:xfrm>
            <a:off x="4648320" y="563868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4038480" y="62182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5181480" y="617220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st particip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1219320" y="594360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990720" y="594360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jugation of avo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914400" y="274320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1143000" y="2971800"/>
            <a:ext cx="670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1" lang="en-GB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cc00ff"/>
                </a:solidFill>
                <a:latin typeface="Comic Sans MS"/>
              </a:rPr>
              <a:t>present tense of Avoi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1600200" y="304812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1143000" y="358128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n add th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Comic Sans MS"/>
              </a:rPr>
              <a:t>past participle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f the verb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want to put into the pa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762120" y="4648320"/>
            <a:ext cx="69339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Eg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Il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regardé</a:t>
            </a:r>
            <a:r>
              <a:rPr b="0" lang="en-GB" sz="2600" spc="-1" strike="noStrike">
                <a:solidFill>
                  <a:srgbClr val="33cc33"/>
                </a:solidFill>
                <a:latin typeface="Comic Sans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omic Sans MS"/>
              </a:rPr>
              <a:t>Nous</a:t>
            </a:r>
            <a:r>
              <a:rPr b="0" lang="en-GB" sz="26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avons </a:t>
            </a:r>
            <a:r>
              <a:rPr b="0" lang="en-GB" sz="26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GB" sz="2600" spc="-1" strike="noStrike">
                <a:solidFill>
                  <a:srgbClr val="0000ff"/>
                </a:solidFill>
                <a:latin typeface="Comic Sans MS"/>
              </a:rPr>
              <a:t>joué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Can you remember what to do?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971640" y="2133720"/>
            <a:ext cx="6769080" cy="11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l est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" name="Text Box 9"/>
          <p:cNvSpPr/>
          <p:nvPr/>
        </p:nvSpPr>
        <p:spPr>
          <a:xfrm>
            <a:off x="2895480" y="35812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662940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Rectangle 11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4648320" y="35812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Text Box 14"/>
          <p:cNvSpPr/>
          <p:nvPr/>
        </p:nvSpPr>
        <p:spPr>
          <a:xfrm>
            <a:off x="1219320" y="167652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1066680" y="16002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hoose the correct past particip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3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ls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lles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3809880" y="47242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e m</a:t>
            </a:r>
            <a:r>
              <a:rPr b="1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ppelle Isabelle.  Je sui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Nous (m.pl) somm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Jacques et Pierre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u (f) es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. Bartley, vous êt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066680" y="10666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Salut, je suis Nadia.  Samedi ma mère et moi somm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3809880" y="47242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Ils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651" dur="indefinite" restart="never" nodeType="tmRoot">
          <p:childTnLst>
            <p:seq>
              <p:cTn id="652" dur="indefinite" nodeType="mainSeq">
                <p:childTnLst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16002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BUT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ll reflexive verbs use the present tense of </a:t>
            </a: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Êtr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instead.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x. </a:t>
            </a: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Je me suis réveillé à huit heures.</a:t>
            </a:r>
            <a:r>
              <a:rPr b="1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br>
              <a:rPr sz="2400"/>
            </a:br>
            <a:br>
              <a:rPr sz="2400"/>
            </a:b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AND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one group of 16 verbs also use </a:t>
            </a: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Être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o form the passé composé.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1760" y="91440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MOST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verbs use </a:t>
            </a:r>
            <a:r>
              <a:rPr b="1" lang="en-GB" sz="2800" spc="-1" strike="noStrike">
                <a:solidFill>
                  <a:srgbClr val="cc00ff"/>
                </a:solidFill>
                <a:latin typeface="Comic Sans MS"/>
              </a:rPr>
              <a:t>Avoir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to form the passé composé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2362320" y="5105520"/>
            <a:ext cx="350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Here is that li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3755880" y="4419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AutoShape 15"/>
          <p:cNvSpPr/>
          <p:nvPr/>
        </p:nvSpPr>
        <p:spPr>
          <a:xfrm>
            <a:off x="3886200" y="5715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anya et Nicole, vous ête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3809880" y="4724280"/>
            <a:ext cx="99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066680" y="10666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héodore et sa sœur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066680" y="10666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Bonjour, je m</a:t>
            </a:r>
            <a:r>
              <a:rPr b="1" lang="ja-JP" sz="3200" spc="-1" strike="noStrike">
                <a:solidFill>
                  <a:srgbClr val="000000"/>
                </a:solidFill>
                <a:latin typeface="Comic Sans MS"/>
              </a:rPr>
              <a:t>’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appelle Thomas.  Ma copine est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1066680" y="1066680"/>
            <a:ext cx="67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Maman, Melinda et Brandon sont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1042920" y="3573360"/>
            <a:ext cx="10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4724280" y="358128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678168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Rectangle 6"/>
          <p:cNvSpPr/>
          <p:nvPr/>
        </p:nvSpPr>
        <p:spPr>
          <a:xfrm>
            <a:off x="3581280" y="4724280"/>
            <a:ext cx="1524240" cy="4572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3809880" y="4724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2819520" y="3581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lé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WordArt 10"/>
          <p:cNvSpPr txBox="1"/>
          <p:nvPr/>
        </p:nvSpPr>
        <p:spPr>
          <a:xfrm>
            <a:off x="1143000" y="762120"/>
            <a:ext cx="6705720" cy="4800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5000"/>
                    </a:srgbClr>
                  </a:outerShdw>
                </a:effectLst>
                <a:latin typeface="Impact"/>
              </a:rPr>
              <a:t>Félicitations!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split dir="in" orient="vert"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List of Verbs which use Être to form their Passé Composé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veni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n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veni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ll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aît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onte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scendre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ster 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nt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orti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tourn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omber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entr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rriv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ourir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1" lang="en-GB" sz="2000" spc="-1" strike="noStrike">
                <a:solidFill>
                  <a:srgbClr val="3333cc"/>
                </a:solidFill>
                <a:latin typeface="Comic Sans MS"/>
              </a:rPr>
              <a:t>arti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1828800" y="60199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914400" y="5257800"/>
            <a:ext cx="7467480" cy="15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These verbs are usually known as th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R &amp; MRS VAN DER TRAMP</a:t>
            </a:r>
            <a:r>
              <a:rPr b="0" lang="ja-JP" sz="28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Comic Sans MS"/>
              </a:rPr>
              <a:t>verbs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3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3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3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3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3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3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300" fill="hold"/>
                                        <p:tgtEl>
                                          <p:spTgt spid="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3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3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300" fill="hold"/>
                                        <p:tgtEl>
                                          <p:spTgt spid="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like to think of them as the “house” verbs: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1" name="4 Marcador de contenido" descr="maison.jpg"/>
          <p:cNvPicPr/>
          <p:nvPr/>
        </p:nvPicPr>
        <p:blipFill>
          <a:blip r:embed="rId1"/>
          <a:stretch/>
        </p:blipFill>
        <p:spPr>
          <a:xfrm>
            <a:off x="1523880" y="1449360"/>
            <a:ext cx="6021360" cy="54086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omment conjugues-tu le verbe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Être 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au présent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22096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/Elle/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ls/Elles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76360" y="22096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u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s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m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êt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o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e participe passé (pp) avec </a:t>
            </a: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Être</a:t>
            </a:r>
            <a:endParaRPr b="1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Pierre est </a:t>
            </a: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arrivé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 au collège a huit heures et quart. Par contre, Anne est </a:t>
            </a: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arrivée 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en retard. Ils sont </a:t>
            </a:r>
            <a:r>
              <a:rPr b="1" lang="es-ES" sz="3200" spc="-1" strike="noStrike">
                <a:solidFill>
                  <a:srgbClr val="000000"/>
                </a:solidFill>
                <a:latin typeface="Lucida Sans Unicode"/>
              </a:rPr>
              <a:t>rentrés</a:t>
            </a:r>
            <a:r>
              <a:rPr b="0" lang="es-ES" sz="3200" spc="-1" strike="noStrike">
                <a:solidFill>
                  <a:srgbClr val="000000"/>
                </a:solidFill>
                <a:latin typeface="Lucida Sans Unicode"/>
              </a:rPr>
              <a:t> à la maison à trois he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Lucida Sans Unicode"/>
              </a:rPr>
              <a:t>Qu’est-ce que tu observ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9"/>
          <p:cNvSpPr/>
          <p:nvPr/>
        </p:nvSpPr>
        <p:spPr>
          <a:xfrm>
            <a:off x="914400" y="609480"/>
            <a:ext cx="7391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When the passé composé is formed with Être, the past participle behaves like an adjective.  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990720" y="16765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if you have a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feminine subj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the “doer” of the verb), you must also have a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femin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ast participle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914400" y="29718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1905120" y="40384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le est allé     (femin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3733920" y="40384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066680" y="457200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th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subjec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s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th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ast particip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must also be </a:t>
            </a: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plur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990720" y="54864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828800" y="54864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s sont allé       (masculine plu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3505320" y="5486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Text Box 22"/>
          <p:cNvSpPr/>
          <p:nvPr/>
        </p:nvSpPr>
        <p:spPr>
          <a:xfrm>
            <a:off x="1752480" y="297180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est allé    (masculi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Text Box 23"/>
          <p:cNvSpPr/>
          <p:nvPr/>
        </p:nvSpPr>
        <p:spPr>
          <a:xfrm>
            <a:off x="243828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Comic Sans MS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Text Box 24"/>
          <p:cNvSpPr/>
          <p:nvPr/>
        </p:nvSpPr>
        <p:spPr>
          <a:xfrm>
            <a:off x="2270160" y="5943600"/>
            <a:ext cx="62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Text Box 25"/>
          <p:cNvSpPr/>
          <p:nvPr/>
        </p:nvSpPr>
        <p:spPr>
          <a:xfrm>
            <a:off x="1828800" y="61722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les sont allé      (feminine plural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Text Box 26"/>
          <p:cNvSpPr/>
          <p:nvPr/>
        </p:nvSpPr>
        <p:spPr>
          <a:xfrm>
            <a:off x="3962520" y="61722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Text Box 27"/>
          <p:cNvSpPr/>
          <p:nvPr/>
        </p:nvSpPr>
        <p:spPr>
          <a:xfrm>
            <a:off x="3809880" y="617220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is a table showing all the agreement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1447920"/>
          <a:ext cx="7086600" cy="4692600"/>
        </p:xfrm>
        <a:graphic>
          <a:graphicData uri="http://schemas.openxmlformats.org/drawingml/2006/table">
            <a:tbl>
              <a:tblPr/>
              <a:tblGrid>
                <a:gridCol w="1295280"/>
                <a:gridCol w="1828800"/>
                <a:gridCol w="396252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j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u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t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i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el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es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no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mm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s)(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vou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êt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e)(es)(s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il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006600"/>
                          </a:solidFill>
                          <a:latin typeface="Comic Sans MS"/>
                        </a:rPr>
                        <a:t>ell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son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32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allé</a:t>
                      </a:r>
                      <a:r>
                        <a:rPr b="1" lang="en-GB" sz="32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Here are the past participles of some of the </a:t>
            </a:r>
            <a:r>
              <a:rPr b="1" lang="ja-JP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Être</a:t>
            </a:r>
            <a:r>
              <a:rPr b="1" lang="ja-JP" sz="3200" spc="-1" strike="noStrike">
                <a:solidFill>
                  <a:srgbClr val="000000"/>
                </a:solidFill>
                <a:latin typeface="Comic Sans MS"/>
              </a:rPr>
              <a:t>”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verbs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1447920"/>
          <a:ext cx="8229600" cy="5303880"/>
        </p:xfrm>
        <a:graphic>
          <a:graphicData uri="http://schemas.openxmlformats.org/drawingml/2006/table">
            <a:tbl>
              <a:tblPr/>
              <a:tblGrid>
                <a:gridCol w="2743200"/>
                <a:gridCol w="2895480"/>
                <a:gridCol w="2590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nfinitiv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ast Particip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English</a:t>
                      </a:r>
                      <a:r>
                        <a:rPr b="1" lang="en-GB" sz="36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t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tr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went ba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tr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ntr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enter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u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ca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t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st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stay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rti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went 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rti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rti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lef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tourn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R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tourn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returne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l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A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l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w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mb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</a:t>
                      </a:r>
                      <a:r>
                        <a:rPr b="1" lang="en-GB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ombé</a:t>
                      </a:r>
                      <a:r>
                        <a:rPr b="1" lang="en-GB" sz="2800" spc="-1" strike="noStrike">
                          <a:solidFill>
                            <a:srgbClr val="3333cc"/>
                          </a:solidFill>
                          <a:latin typeface="Comic Sans MS"/>
                        </a:rPr>
                        <a:t>(e)(s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800" spc="-1" strike="noStrike">
                          <a:solidFill>
                            <a:srgbClr val="ff3399"/>
                          </a:solidFill>
                          <a:latin typeface="Comic Sans MS"/>
                        </a:rPr>
                        <a:t>f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split dir="in" orient="vert"/>
  </p:transition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0T13:27:12Z</dcterms:created>
  <dc:creator>B Cheded</dc:creator>
  <dc:description/>
  <dc:language>en-US</dc:language>
  <cp:lastModifiedBy>Biega, Sarah</cp:lastModifiedBy>
  <dcterms:modified xsi:type="dcterms:W3CDTF">2012-11-23T16:06:18Z</dcterms:modified>
  <cp:revision>20</cp:revision>
  <dc:subject/>
  <dc:title>The Passé Composé with Etre</dc:title>
</cp:coreProperties>
</file>